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2.wmf" ContentType="image/x-wmf"/>
  <Override PartName="/ppt/media/chimes.wav" ContentType="audio/x-wav"/>
  <Override PartName="/ppt/media/image7.wmf" ContentType="image/x-wmf"/>
  <Override PartName="/ppt/media/image17.png" ContentType="image/png"/>
  <Override PartName="/ppt/media/image16.wmf" ContentType="image/x-wmf"/>
  <Override PartName="/ppt/media/image14.png" ContentType="image/png"/>
  <Override PartName="/ppt/media/image13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EBC-1681-4A59-B2B1-4DEE075F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E0A-6184-4D5B-8E2D-45CDD26E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6D425-2AB2-471E-99DF-F3BEA9A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4B133-217C-4D0A-8E7C-9E50CEF6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A842F-E926-4CB4-972D-9FFD8D7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B16A5-CA1C-483D-8699-3EABADED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4C75C-6A16-4F32-839A-E24B86DB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9383D-EBAD-4FD6-9E11-F975F94C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CB62A-ADBC-4CDD-A292-2B3A1C9B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DE4BA-743E-41B0-B3EF-DE5B6A5D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B16AD-9E0F-4FCD-BC13-558AE6DA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80B63-1E87-4888-9B5B-6F757198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2EC-8DFC-4FA5-9FC5-45908D39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38DEA-8AEB-4B05-A87F-4C1E6289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3B35E-BB5E-4534-8276-72EEB557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E469A-FC97-42D9-853E-44FC7476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84B3B-D24F-4271-94A0-9C7A25D6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468D6-C168-4627-A958-555E5B47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E4046-28B4-4364-A14F-80947E7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1819E-3F76-47B8-951E-6D4973E5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88BAC-5E59-415F-9C3D-6ADD29F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89DF4-AF3C-4C1E-A703-8042680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814BD-E423-4B92-AB96-EC48E0A9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B3B-82ED-45D6-8CB7-6481AFD0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6BE6F-A10C-4C20-8B6B-082518AB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562DC-C457-41B3-9D02-1FC544CC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60C3B-9190-481E-81ED-DFD665DE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1EE6A-3DF9-40A3-A17C-7BE5E92C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B19D6-D89C-4718-9FB5-6247E5C2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3AA83-220D-4604-9144-677F0F93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D7930-E169-4A30-91A9-5C378DDE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2E1FA-E5BA-4C73-A7E4-3F92ACFC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CD321-728E-4F9D-90E7-12EB3929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0A5AA-5B97-4C9E-9D0C-C1463418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BEAE-25F7-4509-A4B6-75161685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EEFC5-456A-43B8-AF56-A9CCBFE2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8DC13-4AE0-453D-9391-03707904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23AC1-F08B-45E6-AC86-F4DB8266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25CCF-4510-43B8-B16C-F40AB79A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CA8DD-079C-454B-8F8F-824FA8A9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81BC9-C4A8-4A36-8A9E-2846E611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77A43-F896-4F88-8131-E3BF09C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27C68-EC44-44DA-9E2E-5F6C5EB5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5BF91-8E37-4DEE-95A1-9476E84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BF404-E6F0-405B-AF98-8F78E5A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FEC7-1E26-4D9B-9B3D-4488DD0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B788B-F55E-492B-9433-4E5DE9D7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664EF-6887-4B3B-B656-C445BADB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E7DEC-990D-4E0A-BD57-0A85C465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7B6E2-02A3-4EB8-B984-F8532FF1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899C2-586B-450A-B4E0-F5EA35E9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DBA6-6C10-47BC-8A20-60A6F50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930E-79FF-41E8-9717-07300582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A544-7ADA-4E56-AC0B-AF943F27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4CEE-34F5-4189-9508-3A8E68FD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DAA4-289B-447F-80DA-6B5E13B2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A52-9AA2-44A8-B9D4-F14ACB19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D542-8E08-4ECD-95CC-B364CB28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B5C2-364F-41CA-8985-7DE4EF7C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6924-A4F5-4059-BAE9-B2B92B69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364D-34C8-4B7B-9F65-2A4CAB09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C899-BF24-484E-9DBC-67B2261C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F938-9101-4D00-8CB8-32D74D3B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CBE5-55FC-4FFF-AB28-72B0E017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7C6D-25A6-43B8-AAB2-0446D62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EB0F-D968-4404-96A1-CA4B18C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C223-A932-45BE-9308-78E64D4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28E-8D06-4BF2-867A-2C4E8902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F84E-B19D-4DDD-8D36-AABC1CDF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BA25-1593-45ED-A850-CFAC4D2D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961E-A0E0-4B4C-8F43-D2371A7C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603C-1B36-4769-A670-BC16C75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A600-D17F-4893-BBEE-362D9FE2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FCD9-ECA8-4665-8EF0-37971ACF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45E9-AD32-4455-99F5-E1A63650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B5DA-3175-4F1C-B7CA-212CAF2A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1933-CE1F-47C4-8C3A-4A996DD5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1703-D5CF-4716-BE6C-8CB97477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5C0-BBC0-47B0-B7EA-E3CCBDD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BE8BF-29B5-4B7B-AE9A-F1F576C3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D74C-7F14-41DD-B8A5-645DF79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3382-66D3-4D38-90A2-408F84BA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9D02-5CF9-4BBE-8F91-7FF9A754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198DB-D237-4020-8F7E-321170E2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822C-AB99-400A-9982-B31D736B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6E82-A236-49F0-B6EA-D77C5FD1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E752-D628-4F7E-A5A9-A556FF3A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70606-3C4F-4ADA-B528-0A8E7127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1B904-BC31-4815-95F4-4F6737B9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EA5-1C34-4C9D-82D0-751EF6A2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EFC15-FA5D-4011-B276-65D45601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B539B-14DA-4E6A-8F0F-B76C5619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1F7C-4829-4425-975B-E28EFD8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C1BB-D2F2-4BB1-8242-EB73688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17D8D-85C8-4D5B-ABB4-8198E35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3A996-E002-4457-A477-D40FDD8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8755-D511-4C7B-A046-24C2999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CC6A-9023-4B78-B2F9-C43C51D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F704-A6D6-4893-A6B0-1660BEC1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8654-8409-4F0B-BF76-C0CFA423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A04-4BF1-4645-A0CF-4EA9F515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6A6A-B73C-4712-8FFC-881A30D8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8333-1471-4726-9C47-4A892EE0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852D1-DF62-4363-B2DD-A11001D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8DAB-1FA2-4ADF-961F-8D176A8B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0EE7E-0975-447D-9C0E-FA4ADD81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91C0B-4A12-4DC7-B04D-3EA3CF0D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D6A2C-9B3F-4ADA-AEC1-6A7C4EA7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5012-84FB-4761-A9F2-8090D6A7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FC701-9E40-4216-A7D5-7789544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DB577-D7B6-4665-A7F8-604AA47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467-E442-4522-8C56-A9D1F16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BCE94-2D3A-49BF-8DE5-269721E7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853E-882E-4299-84D1-EC02F223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6C984-73D2-453F-9156-E3510171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D4EC5-0FB6-40B5-A883-A4195EB9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7AF60-5C01-4053-A2EF-B01EA217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CA0D8-7F5D-4779-BC9B-C830E35C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E8FA-BD6E-466E-81AB-A09EE3C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5AC4-57D4-42D3-8592-7200EDE2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ABE9-43E1-4A01-AD5A-0F189F42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12DFB-43A2-4C12-B2AF-F57BC35B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BD4-201C-49BA-9D72-06A7234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35E95-5153-40B4-B328-3F602FE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B8A9-69F4-47D7-8998-86300C5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63DE5-2519-4FE1-8A95-A15257B7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A315E-BA1A-493D-8D40-62790276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5814-A8D4-421D-8956-22BC4115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2DE35-8392-46CB-952B-0C1431FF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5DDE7-9645-44BD-BAB3-9DBEECC4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0B1B5-EDC9-4F63-9E73-5A4B48A4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DAF5D-6A60-4756-8B02-88C9059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88AC0-0AE7-4644-ADD0-E80C2D1B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FD0-AD0F-4D3B-9BE5-D220307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7CFE-4F9B-44AA-AE0C-6E685696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0DA1E-5A33-4DBF-BD35-B7D1976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6665E-7E61-413A-933B-13C1367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9195F-2697-468B-A80A-F39A2BB5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36DF7-73CC-4E33-8F13-CD46661B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25510-45B5-4D28-BE61-D4E161F6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7D9F1-7FAB-4A5F-8048-28CDE5C2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EB0B7-7E75-4636-A580-EE2118A6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11738-F393-48DF-9CB2-F61DCB99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E6EA9-CC18-4A94-A8E2-EC7DEB28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DC3-223C-4A38-8443-8D7F572656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0209-7A9B-4730-A95A-983BA84713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820-5C19-4403-8449-55A6BA7FD4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43AE-C5CB-4CAC-8CD7-96D8FE81F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C059-52BC-4AEA-AE78-E499033BA4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C59D-825C-442C-A3DC-5549637915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EB81-337E-453F-8AAB-8962470698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83C0-808F-4EA9-A619-B25FF7DB68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934B-1B13-49CA-92DD-3885BEFAD8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24C5-5B8B-4480-81FC-10FB49B70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A1CA-3ABE-4672-A392-5893E57BE1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9D92-DC1F-499D-923A-9A767CBE09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BFAE-D731-4442-83D0-BDC5E4AAD9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2.jpeg"/><Relationship Id="rId4" Type="http://schemas.openxmlformats.org/officeDocument/2006/relationships/image" Target="../media/image1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1"/>
          <p:cNvSpPr/>
          <p:nvPr/>
        </p:nvSpPr>
        <p:spPr>
          <a:xfrm>
            <a:off x="325440" y="328680"/>
            <a:ext cx="62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课前回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文本框 2"/>
          <p:cNvSpPr/>
          <p:nvPr/>
        </p:nvSpPr>
        <p:spPr>
          <a:xfrm>
            <a:off x="800280" y="152568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是一元一次方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文本框 3"/>
          <p:cNvSpPr/>
          <p:nvPr/>
        </p:nvSpPr>
        <p:spPr>
          <a:xfrm>
            <a:off x="932040" y="2895480"/>
            <a:ext cx="70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个未知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并且未知数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项的次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整式方程叫做一元一次方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文本框 5"/>
          <p:cNvSpPr/>
          <p:nvPr/>
        </p:nvSpPr>
        <p:spPr>
          <a:xfrm>
            <a:off x="800280" y="4508640"/>
            <a:ext cx="69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指什么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指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文本框 6"/>
          <p:cNvSpPr/>
          <p:nvPr/>
        </p:nvSpPr>
        <p:spPr>
          <a:xfrm>
            <a:off x="1023840" y="5383080"/>
            <a:ext cx="596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的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未知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的是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未知数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次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图片 5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文本框 4"/>
          <p:cNvSpPr/>
          <p:nvPr/>
        </p:nvSpPr>
        <p:spPr>
          <a:xfrm>
            <a:off x="719280" y="2825640"/>
            <a:ext cx="791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幼圆"/>
              </a:rPr>
              <a:t>我们把两个方程合在一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幼圆"/>
              </a:rPr>
              <a:t>写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幼圆"/>
              </a:rPr>
              <a:t>就组成了一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二元一次方程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9"/>
          <p:cNvSpPr/>
          <p:nvPr/>
        </p:nvSpPr>
        <p:spPr>
          <a:xfrm>
            <a:off x="719280" y="11653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未知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必须同时满足方程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+y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Object 20" descr=""/>
          <p:cNvPicPr/>
          <p:nvPr/>
        </p:nvPicPr>
        <p:blipFill>
          <a:blip r:embed="rId1"/>
          <a:stretch/>
        </p:blipFill>
        <p:spPr>
          <a:xfrm>
            <a:off x="2222640" y="3349800"/>
            <a:ext cx="2469960" cy="148104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3" descr="QQ截图20170412190909"/>
          <p:cNvPicPr/>
          <p:nvPr/>
        </p:nvPicPr>
        <p:blipFill>
          <a:blip r:embed="rId2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文本框 2"/>
          <p:cNvSpPr/>
          <p:nvPr/>
        </p:nvSpPr>
        <p:spPr>
          <a:xfrm>
            <a:off x="638280" y="1746360"/>
            <a:ext cx="788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含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两个未知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每个含未知数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项的次数都是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并且一共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两个方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像这样的方程组叫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元一次方程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WordArt 4"/>
          <p:cNvSpPr txBox="1"/>
          <p:nvPr/>
        </p:nvSpPr>
        <p:spPr>
          <a:xfrm>
            <a:off x="250920" y="260280"/>
            <a:ext cx="36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学习新知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84" name="图片 3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  <p:sp>
        <p:nvSpPr>
          <p:cNvPr id="585" name="文本框 2"/>
          <p:cNvSpPr/>
          <p:nvPr/>
        </p:nvSpPr>
        <p:spPr>
          <a:xfrm>
            <a:off x="506520" y="3632040"/>
            <a:ext cx="83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判断要点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方程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共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两个未知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含未知数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项的次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方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46944 E">
                                      <p:cBhvr>
                                        <p:cTn id="239" dur="1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9700"/>
          <p:cNvSpPr/>
          <p:nvPr/>
        </p:nvSpPr>
        <p:spPr>
          <a:xfrm>
            <a:off x="2685960" y="702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满足方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对象 29701" descr=""/>
          <p:cNvPicPr/>
          <p:nvPr/>
        </p:nvPicPr>
        <p:blipFill>
          <a:blip r:embed="rId1"/>
          <a:stretch/>
        </p:blipFill>
        <p:spPr>
          <a:xfrm>
            <a:off x="4457880" y="704880"/>
            <a:ext cx="1814400" cy="619200"/>
          </a:xfrm>
          <a:prstGeom prst="rect">
            <a:avLst/>
          </a:prstGeom>
          <a:ln w="0">
            <a:noFill/>
          </a:ln>
        </p:spPr>
      </p:pic>
      <p:sp>
        <p:nvSpPr>
          <p:cNvPr id="588" name="矩形 29702"/>
          <p:cNvSpPr/>
          <p:nvPr/>
        </p:nvSpPr>
        <p:spPr>
          <a:xfrm>
            <a:off x="380880" y="14043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且符合实际意义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值有哪些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云形标注 29703"/>
          <p:cNvSpPr/>
          <p:nvPr/>
        </p:nvSpPr>
        <p:spPr>
          <a:xfrm>
            <a:off x="0" y="260280"/>
            <a:ext cx="1943280" cy="792360"/>
          </a:xfrm>
          <a:prstGeom prst="cloudCallout">
            <a:avLst>
              <a:gd name="adj1" fmla="val 57597"/>
              <a:gd name="adj2" fmla="val 6162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476360" y="2408400"/>
          <a:ext cx="6264360" cy="1439640"/>
        </p:xfrm>
        <a:graphic>
          <a:graphicData uri="http://schemas.openxmlformats.org/drawingml/2006/table">
            <a:tbl>
              <a:tblPr/>
              <a:tblGrid>
                <a:gridCol w="431640"/>
                <a:gridCol w="576360"/>
                <a:gridCol w="500040"/>
                <a:gridCol w="507960"/>
                <a:gridCol w="503280"/>
                <a:gridCol w="505080"/>
                <a:gridCol w="502920"/>
                <a:gridCol w="576360"/>
                <a:gridCol w="504720"/>
                <a:gridCol w="503280"/>
                <a:gridCol w="505080"/>
                <a:gridCol w="647640"/>
              </a:tblGrid>
              <a:tr h="64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文本框 29781"/>
          <p:cNvSpPr/>
          <p:nvPr/>
        </p:nvSpPr>
        <p:spPr>
          <a:xfrm>
            <a:off x="2050920" y="24796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文本框 29783"/>
          <p:cNvSpPr/>
          <p:nvPr/>
        </p:nvSpPr>
        <p:spPr>
          <a:xfrm>
            <a:off x="2556000" y="24796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文本框 29785"/>
          <p:cNvSpPr/>
          <p:nvPr/>
        </p:nvSpPr>
        <p:spPr>
          <a:xfrm>
            <a:off x="306072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文本框 29787"/>
          <p:cNvSpPr/>
          <p:nvPr/>
        </p:nvSpPr>
        <p:spPr>
          <a:xfrm>
            <a:off x="356400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文本框 29789"/>
          <p:cNvSpPr/>
          <p:nvPr/>
        </p:nvSpPr>
        <p:spPr>
          <a:xfrm>
            <a:off x="406728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文本框 29790"/>
          <p:cNvSpPr/>
          <p:nvPr/>
        </p:nvSpPr>
        <p:spPr>
          <a:xfrm>
            <a:off x="457200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文本框 29791"/>
          <p:cNvSpPr/>
          <p:nvPr/>
        </p:nvSpPr>
        <p:spPr>
          <a:xfrm>
            <a:off x="5076720" y="24796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文本框 29793"/>
          <p:cNvSpPr/>
          <p:nvPr/>
        </p:nvSpPr>
        <p:spPr>
          <a:xfrm>
            <a:off x="615636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文本框 29794"/>
          <p:cNvSpPr/>
          <p:nvPr/>
        </p:nvSpPr>
        <p:spPr>
          <a:xfrm>
            <a:off x="665964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文本框 29798"/>
          <p:cNvSpPr/>
          <p:nvPr/>
        </p:nvSpPr>
        <p:spPr>
          <a:xfrm>
            <a:off x="7093080" y="2479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文本框 29814"/>
          <p:cNvSpPr/>
          <p:nvPr/>
        </p:nvSpPr>
        <p:spPr>
          <a:xfrm>
            <a:off x="565308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文本框 29876"/>
          <p:cNvSpPr/>
          <p:nvPr/>
        </p:nvSpPr>
        <p:spPr>
          <a:xfrm>
            <a:off x="1908000" y="3127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文本框 29877"/>
          <p:cNvSpPr/>
          <p:nvPr/>
        </p:nvSpPr>
        <p:spPr>
          <a:xfrm>
            <a:off x="255600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文本框 29880"/>
          <p:cNvSpPr/>
          <p:nvPr/>
        </p:nvSpPr>
        <p:spPr>
          <a:xfrm>
            <a:off x="306072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文本框 29881"/>
          <p:cNvSpPr/>
          <p:nvPr/>
        </p:nvSpPr>
        <p:spPr>
          <a:xfrm>
            <a:off x="356400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文本框 29882"/>
          <p:cNvSpPr/>
          <p:nvPr/>
        </p:nvSpPr>
        <p:spPr>
          <a:xfrm>
            <a:off x="3995640" y="3127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文本框 29883"/>
          <p:cNvSpPr/>
          <p:nvPr/>
        </p:nvSpPr>
        <p:spPr>
          <a:xfrm>
            <a:off x="457200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文本框 29884"/>
          <p:cNvSpPr/>
          <p:nvPr/>
        </p:nvSpPr>
        <p:spPr>
          <a:xfrm>
            <a:off x="5076720" y="31273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文本框 29885"/>
          <p:cNvSpPr/>
          <p:nvPr/>
        </p:nvSpPr>
        <p:spPr>
          <a:xfrm>
            <a:off x="565164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文本框 29886"/>
          <p:cNvSpPr/>
          <p:nvPr/>
        </p:nvSpPr>
        <p:spPr>
          <a:xfrm>
            <a:off x="6084720" y="31273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文本框 29887"/>
          <p:cNvSpPr/>
          <p:nvPr/>
        </p:nvSpPr>
        <p:spPr>
          <a:xfrm>
            <a:off x="6659640" y="31273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文本框 29888"/>
          <p:cNvSpPr/>
          <p:nvPr/>
        </p:nvSpPr>
        <p:spPr>
          <a:xfrm>
            <a:off x="7236000" y="31273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图片 3" descr="QQ截图20170412190909"/>
          <p:cNvPicPr/>
          <p:nvPr/>
        </p:nvPicPr>
        <p:blipFill>
          <a:blip r:embed="rId2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1"/>
          <p:cNvSpPr/>
          <p:nvPr/>
        </p:nvSpPr>
        <p:spPr>
          <a:xfrm>
            <a:off x="622440" y="1851120"/>
            <a:ext cx="8121600" cy="19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华文细黑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楷体_GB2312"/>
              </a:rPr>
              <a:t>使二元一次方程两边的值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楷体_GB2312"/>
              </a:rPr>
              <a:t>两个未知数的值</a:t>
            </a: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楷体_GB2312"/>
              </a:rPr>
              <a:t>，叫做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楷体_GB2312"/>
              </a:rPr>
              <a:t>二元一次方程的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WordArt 4"/>
          <p:cNvSpPr txBox="1"/>
          <p:nvPr/>
        </p:nvSpPr>
        <p:spPr>
          <a:xfrm>
            <a:off x="250920" y="260280"/>
            <a:ext cx="36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学习新知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16" name="对象 2" descr=""/>
          <p:cNvPicPr/>
          <p:nvPr/>
        </p:nvPicPr>
        <p:blipFill>
          <a:blip r:embed="rId1"/>
          <a:stretch/>
        </p:blipFill>
        <p:spPr>
          <a:xfrm>
            <a:off x="2422440" y="4832280"/>
            <a:ext cx="1428840" cy="1287360"/>
          </a:xfrm>
          <a:prstGeom prst="rect">
            <a:avLst/>
          </a:prstGeom>
          <a:ln w="0">
            <a:noFill/>
          </a:ln>
        </p:spPr>
      </p:pic>
      <p:pic>
        <p:nvPicPr>
          <p:cNvPr id="617" name="对象 3" descr=""/>
          <p:cNvPicPr/>
          <p:nvPr/>
        </p:nvPicPr>
        <p:blipFill>
          <a:blip r:embed="rId2"/>
          <a:stretch/>
        </p:blipFill>
        <p:spPr>
          <a:xfrm>
            <a:off x="4941720" y="4832280"/>
            <a:ext cx="1251000" cy="128736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3" descr="QQ截图20170412190909"/>
          <p:cNvPicPr/>
          <p:nvPr/>
        </p:nvPicPr>
        <p:blipFill>
          <a:blip r:embed="rId3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29700"/>
          <p:cNvSpPr/>
          <p:nvPr/>
        </p:nvSpPr>
        <p:spPr>
          <a:xfrm>
            <a:off x="2685960" y="702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满足方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矩形 29702"/>
          <p:cNvSpPr/>
          <p:nvPr/>
        </p:nvSpPr>
        <p:spPr>
          <a:xfrm>
            <a:off x="380880" y="14043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且符合实际意义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值有哪些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云形标注 29703"/>
          <p:cNvSpPr/>
          <p:nvPr/>
        </p:nvSpPr>
        <p:spPr>
          <a:xfrm>
            <a:off x="0" y="260280"/>
            <a:ext cx="1943280" cy="792360"/>
          </a:xfrm>
          <a:prstGeom prst="cloudCallout">
            <a:avLst>
              <a:gd name="adj1" fmla="val 57597"/>
              <a:gd name="adj2" fmla="val 6162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476360" y="2408400"/>
          <a:ext cx="6264360" cy="1439640"/>
        </p:xfrm>
        <a:graphic>
          <a:graphicData uri="http://schemas.openxmlformats.org/drawingml/2006/table">
            <a:tbl>
              <a:tblPr/>
              <a:tblGrid>
                <a:gridCol w="431640"/>
                <a:gridCol w="576360"/>
                <a:gridCol w="500040"/>
                <a:gridCol w="507960"/>
                <a:gridCol w="503280"/>
                <a:gridCol w="505080"/>
                <a:gridCol w="502920"/>
                <a:gridCol w="576360"/>
                <a:gridCol w="504720"/>
                <a:gridCol w="503280"/>
                <a:gridCol w="505080"/>
                <a:gridCol w="647640"/>
              </a:tblGrid>
              <a:tr h="64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文本框 29781"/>
          <p:cNvSpPr/>
          <p:nvPr/>
        </p:nvSpPr>
        <p:spPr>
          <a:xfrm>
            <a:off x="2050920" y="24796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文本框 29783"/>
          <p:cNvSpPr/>
          <p:nvPr/>
        </p:nvSpPr>
        <p:spPr>
          <a:xfrm>
            <a:off x="2556000" y="24796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文本框 29785"/>
          <p:cNvSpPr/>
          <p:nvPr/>
        </p:nvSpPr>
        <p:spPr>
          <a:xfrm>
            <a:off x="306072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文本框 29787"/>
          <p:cNvSpPr/>
          <p:nvPr/>
        </p:nvSpPr>
        <p:spPr>
          <a:xfrm>
            <a:off x="356400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文本框 29789"/>
          <p:cNvSpPr/>
          <p:nvPr/>
        </p:nvSpPr>
        <p:spPr>
          <a:xfrm>
            <a:off x="406728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文本框 29790"/>
          <p:cNvSpPr/>
          <p:nvPr/>
        </p:nvSpPr>
        <p:spPr>
          <a:xfrm>
            <a:off x="457200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文本框 29791"/>
          <p:cNvSpPr/>
          <p:nvPr/>
        </p:nvSpPr>
        <p:spPr>
          <a:xfrm>
            <a:off x="5076720" y="24796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文本框 29793"/>
          <p:cNvSpPr/>
          <p:nvPr/>
        </p:nvSpPr>
        <p:spPr>
          <a:xfrm>
            <a:off x="615636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文本框 29794"/>
          <p:cNvSpPr/>
          <p:nvPr/>
        </p:nvSpPr>
        <p:spPr>
          <a:xfrm>
            <a:off x="665964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文本框 29798"/>
          <p:cNvSpPr/>
          <p:nvPr/>
        </p:nvSpPr>
        <p:spPr>
          <a:xfrm>
            <a:off x="7093080" y="2479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文本框 29814"/>
          <p:cNvSpPr/>
          <p:nvPr/>
        </p:nvSpPr>
        <p:spPr>
          <a:xfrm>
            <a:off x="5653080" y="247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文本框 29834"/>
          <p:cNvSpPr/>
          <p:nvPr/>
        </p:nvSpPr>
        <p:spPr>
          <a:xfrm>
            <a:off x="380880" y="5195880"/>
            <a:ext cx="86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从中你体会到二元一次方程有＿＿＿个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文本框 29835"/>
          <p:cNvSpPr/>
          <p:nvPr/>
        </p:nvSpPr>
        <p:spPr>
          <a:xfrm>
            <a:off x="6467400" y="51958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文本框 29876"/>
          <p:cNvSpPr/>
          <p:nvPr/>
        </p:nvSpPr>
        <p:spPr>
          <a:xfrm>
            <a:off x="1908000" y="3127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文本框 29877"/>
          <p:cNvSpPr/>
          <p:nvPr/>
        </p:nvSpPr>
        <p:spPr>
          <a:xfrm>
            <a:off x="255600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文本框 29880"/>
          <p:cNvSpPr/>
          <p:nvPr/>
        </p:nvSpPr>
        <p:spPr>
          <a:xfrm>
            <a:off x="306072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文本框 29881"/>
          <p:cNvSpPr/>
          <p:nvPr/>
        </p:nvSpPr>
        <p:spPr>
          <a:xfrm>
            <a:off x="356400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文本框 29882"/>
          <p:cNvSpPr/>
          <p:nvPr/>
        </p:nvSpPr>
        <p:spPr>
          <a:xfrm>
            <a:off x="3995640" y="3127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文本框 29883"/>
          <p:cNvSpPr/>
          <p:nvPr/>
        </p:nvSpPr>
        <p:spPr>
          <a:xfrm>
            <a:off x="457200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文本框 29884"/>
          <p:cNvSpPr/>
          <p:nvPr/>
        </p:nvSpPr>
        <p:spPr>
          <a:xfrm>
            <a:off x="5076720" y="31273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文本框 29885"/>
          <p:cNvSpPr/>
          <p:nvPr/>
        </p:nvSpPr>
        <p:spPr>
          <a:xfrm>
            <a:off x="5651640" y="3127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文本框 29886"/>
          <p:cNvSpPr/>
          <p:nvPr/>
        </p:nvSpPr>
        <p:spPr>
          <a:xfrm>
            <a:off x="6084720" y="31273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文本框 29887"/>
          <p:cNvSpPr/>
          <p:nvPr/>
        </p:nvSpPr>
        <p:spPr>
          <a:xfrm>
            <a:off x="6659640" y="31273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文本框 29888"/>
          <p:cNvSpPr/>
          <p:nvPr/>
        </p:nvSpPr>
        <p:spPr>
          <a:xfrm>
            <a:off x="7236000" y="31273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图片 3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1"/>
          <p:cNvSpPr/>
          <p:nvPr/>
        </p:nvSpPr>
        <p:spPr>
          <a:xfrm>
            <a:off x="380880" y="4046400"/>
            <a:ext cx="78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如果不要求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的值满足实际意义，你还能找出其它的值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图片 4" descr=""/>
          <p:cNvPicPr/>
          <p:nvPr/>
        </p:nvPicPr>
        <p:blipFill>
          <a:blip r:embed="rId2"/>
          <a:stretch/>
        </p:blipFill>
        <p:spPr>
          <a:xfrm>
            <a:off x="4572000" y="703440"/>
            <a:ext cx="1819440" cy="61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文本框 29827"/>
          <p:cNvSpPr/>
          <p:nvPr/>
        </p:nvSpPr>
        <p:spPr>
          <a:xfrm>
            <a:off x="596880" y="415800"/>
            <a:ext cx="637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表中哪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值即满足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满足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对象 3" descr=""/>
          <p:cNvPicPr/>
          <p:nvPr/>
        </p:nvPicPr>
        <p:blipFill>
          <a:blip r:embed="rId1"/>
          <a:stretch/>
        </p:blipFill>
        <p:spPr>
          <a:xfrm>
            <a:off x="3114720" y="1241280"/>
            <a:ext cx="2112840" cy="650880"/>
          </a:xfrm>
          <a:prstGeom prst="rect">
            <a:avLst/>
          </a:prstGeom>
          <a:ln w="0">
            <a:noFill/>
          </a:ln>
        </p:spPr>
      </p:pic>
      <p:sp>
        <p:nvSpPr>
          <p:cNvPr id="652" name="文本框 4"/>
          <p:cNvSpPr/>
          <p:nvPr/>
        </p:nvSpPr>
        <p:spPr>
          <a:xfrm>
            <a:off x="2807280" y="3660840"/>
            <a:ext cx="31068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华文细黑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楷体_GB2312"/>
              </a:rPr>
              <a:t>一般地，二元一次方程组的两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楷体_GB2312"/>
              </a:rPr>
              <a:t>方程的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楷体_GB2312"/>
              </a:rPr>
              <a:t>公共解</a:t>
            </a: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楷体_GB2312"/>
              </a:rPr>
              <a:t>，叫做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楷体_GB2312"/>
              </a:rPr>
              <a:t>二元一次方程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楷体_GB2312"/>
              </a:rPr>
              <a:t>的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对象 7" descr=""/>
          <p:cNvPicPr/>
          <p:nvPr/>
        </p:nvPicPr>
        <p:blipFill>
          <a:blip r:embed="rId2"/>
          <a:stretch/>
        </p:blipFill>
        <p:spPr>
          <a:xfrm>
            <a:off x="3514680" y="2114640"/>
            <a:ext cx="1503360" cy="154620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3" descr="QQ截图20170412190909"/>
          <p:cNvPicPr/>
          <p:nvPr/>
        </p:nvPicPr>
        <p:blipFill>
          <a:blip r:embed="rId3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" descr=""/>
          <p:cNvPicPr/>
          <p:nvPr/>
        </p:nvPicPr>
        <p:blipFill>
          <a:blip r:embed="rId4"/>
          <a:stretch/>
        </p:blipFill>
        <p:spPr>
          <a:xfrm>
            <a:off x="6975360" y="415800"/>
            <a:ext cx="1819440" cy="61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文本框 9218"/>
          <p:cNvSpPr/>
          <p:nvPr/>
        </p:nvSpPr>
        <p:spPr>
          <a:xfrm>
            <a:off x="533520" y="89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一、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每个方程都含有两个未知数</a:t>
            </a:r>
            <a:r>
              <a:rPr b="1" lang="en-US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(x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y),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并且含未知数的项的次数都是</a:t>
            </a:r>
            <a:r>
              <a:rPr b="1" lang="en-US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，像这样的方程叫做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二元一次方程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矩形 9219"/>
          <p:cNvSpPr txBox="1"/>
          <p:nvPr/>
        </p:nvSpPr>
        <p:spPr>
          <a:xfrm>
            <a:off x="457200" y="228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ff99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课堂小结：</a:t>
            </a:r>
            <a:endParaRPr b="1" i="1" lang="en-US" sz="2800" spc="1" strike="noStrike">
              <a:ln w="9360">
                <a:solidFill>
                  <a:srgbClr val="ff99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658" name="文本框 9220"/>
          <p:cNvSpPr/>
          <p:nvPr/>
        </p:nvSpPr>
        <p:spPr>
          <a:xfrm>
            <a:off x="533520" y="234936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二、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把两个二元一次方程合在一起，就组成了一个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二元一次方程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组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文本框 9221"/>
          <p:cNvSpPr/>
          <p:nvPr/>
        </p:nvSpPr>
        <p:spPr>
          <a:xfrm>
            <a:off x="533520" y="335772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三、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使二元一次方程两边的值相等的两个未知数的值，叫做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二元一次方程的解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文本框 9222"/>
          <p:cNvSpPr/>
          <p:nvPr/>
        </p:nvSpPr>
        <p:spPr>
          <a:xfrm>
            <a:off x="539640" y="43657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四、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一般地，二元一次方程组的两个方程的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公共解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，叫做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二元一次方程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组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的解</a:t>
            </a:r>
            <a:r>
              <a:rPr b="1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图片 3" descr="QQ截图20170412190909"/>
          <p:cNvPicPr/>
          <p:nvPr/>
        </p:nvPicPr>
        <p:blipFill>
          <a:blip r:embed="rId3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  <p:sp>
        <p:nvSpPr>
          <p:cNvPr id="662" name="文本框 1"/>
          <p:cNvSpPr/>
          <p:nvPr/>
        </p:nvSpPr>
        <p:spPr>
          <a:xfrm>
            <a:off x="2124000" y="2620800"/>
            <a:ext cx="4683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方正大黑简体"/>
                <a:ea typeface="方正大黑简体"/>
              </a:rPr>
              <a:t>通过这堂课的学习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方正大黑简体"/>
                <a:ea typeface="方正大黑简体"/>
              </a:rPr>
              <a:t>你有哪些收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文本框 1"/>
          <p:cNvSpPr/>
          <p:nvPr/>
        </p:nvSpPr>
        <p:spPr>
          <a:xfrm>
            <a:off x="984240" y="1039680"/>
            <a:ext cx="14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图片 3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  <p:sp>
        <p:nvSpPr>
          <p:cNvPr id="665" name="文本框 2"/>
          <p:cNvSpPr/>
          <p:nvPr/>
        </p:nvSpPr>
        <p:spPr>
          <a:xfrm>
            <a:off x="1568520" y="2416320"/>
            <a:ext cx="58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完成平台上发布的任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2"/>
          <p:cNvSpPr/>
          <p:nvPr/>
        </p:nvSpPr>
        <p:spPr>
          <a:xfrm>
            <a:off x="787320" y="774720"/>
            <a:ext cx="69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是一元一次方程的解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文本框 3"/>
          <p:cNvSpPr/>
          <p:nvPr/>
        </p:nvSpPr>
        <p:spPr>
          <a:xfrm>
            <a:off x="927000" y="1736640"/>
            <a:ext cx="70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方程左、右两边相等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未知数的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叫做方程的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图片 3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  <p:sp>
        <p:nvSpPr>
          <p:cNvPr id="501" name="文本框 4"/>
          <p:cNvSpPr/>
          <p:nvPr/>
        </p:nvSpPr>
        <p:spPr>
          <a:xfrm>
            <a:off x="787320" y="3475080"/>
            <a:ext cx="76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一个方程中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个未知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含有未知数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项的次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我们该怎样称呼它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194568"/>
          <p:cNvSpPr/>
          <p:nvPr/>
        </p:nvSpPr>
        <p:spPr>
          <a:xfrm>
            <a:off x="511200" y="1914480"/>
            <a:ext cx="834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1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元一次方程（组</a:t>
            </a:r>
            <a:r>
              <a:rPr b="1" lang="en-US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885960" y="2114640"/>
            <a:ext cx="32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3"/>
          <p:cNvSpPr/>
          <p:nvPr/>
        </p:nvSpPr>
        <p:spPr>
          <a:xfrm>
            <a:off x="1665360" y="3303720"/>
            <a:ext cx="62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并掌握二元一次方程、二元一次方程组和它的解得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4"/>
          <p:cNvSpPr/>
          <p:nvPr/>
        </p:nvSpPr>
        <p:spPr>
          <a:xfrm>
            <a:off x="1665360" y="4424400"/>
            <a:ext cx="58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会检验一组数值是否是二元一次方程（组）的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图片 3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150533"/>
          <p:cNvSpPr/>
          <p:nvPr/>
        </p:nvSpPr>
        <p:spPr>
          <a:xfrm>
            <a:off x="560520" y="7081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篮球联赛中，每场比赛都要分出胜负，每队胜一场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，负一场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某队为了争取较好名次，想在全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场比赛中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，那么这个队胜负场数应分别是多少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150536"/>
          <p:cNvSpPr/>
          <p:nvPr/>
        </p:nvSpPr>
        <p:spPr>
          <a:xfrm>
            <a:off x="939960" y="2730600"/>
            <a:ext cx="69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问题中包含了哪些必须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同时满足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条件？         也就是有哪些等量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1"/>
          <p:cNvSpPr/>
          <p:nvPr/>
        </p:nvSpPr>
        <p:spPr>
          <a:xfrm>
            <a:off x="1766880" y="4102200"/>
            <a:ext cx="59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Wingdings"/>
                <a:ea typeface="Wingdings"/>
              </a:rPr>
              <a:t>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胜的场数＋负的场数＝总场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文本框 2"/>
          <p:cNvSpPr/>
          <p:nvPr/>
        </p:nvSpPr>
        <p:spPr>
          <a:xfrm>
            <a:off x="2897640" y="4809960"/>
            <a:ext cx="38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Wingdings"/>
                <a:ea typeface="Wingdings"/>
              </a:rPr>
              <a:t>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胜场得分＋负场得分＝总分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图片 3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文本框 3"/>
          <p:cNvSpPr/>
          <p:nvPr/>
        </p:nvSpPr>
        <p:spPr>
          <a:xfrm>
            <a:off x="593640" y="32544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问题中的等量关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954000" y="1120680"/>
            <a:ext cx="65642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Wingdings"/>
                <a:ea typeface="Wingdings"/>
              </a:rPr>
              <a:t>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胜的场数＋负的场数＝总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954000" y="1762200"/>
            <a:ext cx="65642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Wingdings"/>
                <a:ea typeface="Wingdings"/>
              </a:rPr>
              <a:t>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胜场得分＋负场得分＝总分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4"/>
          <p:cNvSpPr/>
          <p:nvPr/>
        </p:nvSpPr>
        <p:spPr>
          <a:xfrm>
            <a:off x="593640" y="3863880"/>
            <a:ext cx="504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若设胜    场：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对象 5" descr=""/>
          <p:cNvPicPr/>
          <p:nvPr/>
        </p:nvPicPr>
        <p:blipFill>
          <a:blip r:embed="rId1"/>
          <a:stretch/>
        </p:blipFill>
        <p:spPr>
          <a:xfrm>
            <a:off x="2239920" y="3962520"/>
            <a:ext cx="460440" cy="5047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7"/>
          <p:cNvSpPr/>
          <p:nvPr/>
        </p:nvSpPr>
        <p:spPr>
          <a:xfrm>
            <a:off x="4441680" y="3863880"/>
            <a:ext cx="330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负                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对象 8" descr=""/>
          <p:cNvPicPr/>
          <p:nvPr/>
        </p:nvPicPr>
        <p:blipFill>
          <a:blip r:embed="rId2"/>
          <a:stretch/>
        </p:blipFill>
        <p:spPr>
          <a:xfrm>
            <a:off x="5227560" y="3855960"/>
            <a:ext cx="1730520" cy="709560"/>
          </a:xfrm>
          <a:prstGeom prst="rect">
            <a:avLst/>
          </a:prstGeom>
          <a:ln w="0">
            <a:noFill/>
          </a:ln>
        </p:spPr>
      </p:pic>
      <p:sp>
        <p:nvSpPr>
          <p:cNvPr id="519" name="文本框 9"/>
          <p:cNvSpPr/>
          <p:nvPr/>
        </p:nvSpPr>
        <p:spPr>
          <a:xfrm>
            <a:off x="954000" y="4896000"/>
            <a:ext cx="14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方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对象 10" descr=""/>
          <p:cNvPicPr/>
          <p:nvPr/>
        </p:nvPicPr>
        <p:blipFill>
          <a:blip r:embed="rId3"/>
          <a:stretch/>
        </p:blipFill>
        <p:spPr>
          <a:xfrm>
            <a:off x="2424240" y="4842000"/>
            <a:ext cx="4294080" cy="80964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1" descr="QQ截图20170412190909"/>
          <p:cNvPicPr/>
          <p:nvPr/>
        </p:nvPicPr>
        <p:blipFill>
          <a:blip r:embed="rId4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  <p:sp>
        <p:nvSpPr>
          <p:cNvPr id="522" name="文本框 1"/>
          <p:cNvSpPr/>
          <p:nvPr/>
        </p:nvSpPr>
        <p:spPr>
          <a:xfrm>
            <a:off x="509760" y="252108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能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元一次方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解决这个问题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文本框 1"/>
          <p:cNvSpPr/>
          <p:nvPr/>
        </p:nvSpPr>
        <p:spPr>
          <a:xfrm>
            <a:off x="325440" y="328680"/>
            <a:ext cx="623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自主尝试，合作交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文本框 2"/>
          <p:cNvSpPr/>
          <p:nvPr/>
        </p:nvSpPr>
        <p:spPr>
          <a:xfrm>
            <a:off x="917640" y="1420920"/>
            <a:ext cx="66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么你能不能根据题意直接设两个未知数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文本框 3"/>
          <p:cNvSpPr/>
          <p:nvPr/>
        </p:nvSpPr>
        <p:spPr>
          <a:xfrm>
            <a:off x="620640" y="3344760"/>
            <a:ext cx="72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如说：设胜   场，负    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对象 4" descr=""/>
          <p:cNvPicPr/>
          <p:nvPr/>
        </p:nvPicPr>
        <p:blipFill>
          <a:blip r:embed="rId1"/>
          <a:stretch/>
        </p:blipFill>
        <p:spPr>
          <a:xfrm>
            <a:off x="3849840" y="3413160"/>
            <a:ext cx="455400" cy="503280"/>
          </a:xfrm>
          <a:prstGeom prst="rect">
            <a:avLst/>
          </a:prstGeom>
          <a:ln w="0">
            <a:noFill/>
          </a:ln>
        </p:spPr>
      </p:pic>
      <p:pic>
        <p:nvPicPr>
          <p:cNvPr id="527" name="对象 5" descr=""/>
          <p:cNvPicPr/>
          <p:nvPr/>
        </p:nvPicPr>
        <p:blipFill>
          <a:blip r:embed="rId2"/>
          <a:stretch/>
        </p:blipFill>
        <p:spPr>
          <a:xfrm>
            <a:off x="5635800" y="3375000"/>
            <a:ext cx="547560" cy="58104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11" descr="QQ截图20170412190909"/>
          <p:cNvPicPr/>
          <p:nvPr/>
        </p:nvPicPr>
        <p:blipFill>
          <a:blip r:embed="rId3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468360" y="189000"/>
            <a:ext cx="1871280" cy="703440"/>
            <a:chOff x="468360" y="189000"/>
            <a:chExt cx="1871280" cy="703440"/>
          </a:xfrm>
        </p:grpSpPr>
        <p:sp>
          <p:nvSpPr>
            <p:cNvPr id="530" name="AutoShape 4"/>
            <p:cNvSpPr/>
            <p:nvPr/>
          </p:nvSpPr>
          <p:spPr>
            <a:xfrm>
              <a:off x="468360" y="405000"/>
              <a:ext cx="1871280" cy="431640"/>
            </a:xfrm>
            <a:custGeom>
              <a:avLst/>
              <a:gdLst>
                <a:gd name="textAreaLeft" fmla="*/ 0 w 1871280"/>
                <a:gd name="textAreaRight" fmla="*/ 1871640 w 1871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5"/>
            <p:cNvSpPr/>
            <p:nvPr/>
          </p:nvSpPr>
          <p:spPr>
            <a:xfrm>
              <a:off x="468360" y="189000"/>
              <a:ext cx="14900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隶书"/>
                </a:rPr>
                <a:t>分析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Text Box 6"/>
          <p:cNvSpPr/>
          <p:nvPr/>
        </p:nvSpPr>
        <p:spPr>
          <a:xfrm>
            <a:off x="-73080" y="1650960"/>
            <a:ext cx="86835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胜场数＋负场数＝总场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36360" y="2352600"/>
            <a:ext cx="88804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胜场得分＋负场得分＝总分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1343160" y="890640"/>
            <a:ext cx="6265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设篮球队胜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场，负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场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9"/>
          <p:cNvGrpSpPr/>
          <p:nvPr/>
        </p:nvGrpSpPr>
        <p:grpSpPr>
          <a:xfrm>
            <a:off x="468360" y="3251160"/>
            <a:ext cx="4825440" cy="2398680"/>
            <a:chOff x="468360" y="3251160"/>
            <a:chExt cx="4825440" cy="2398680"/>
          </a:xfrm>
        </p:grpSpPr>
        <p:sp>
          <p:nvSpPr>
            <p:cNvPr id="536" name="Rectangle 10"/>
            <p:cNvSpPr/>
            <p:nvPr/>
          </p:nvSpPr>
          <p:spPr>
            <a:xfrm>
              <a:off x="3925080" y="4833720"/>
              <a:ext cx="136872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1"/>
            <p:cNvSpPr/>
            <p:nvPr/>
          </p:nvSpPr>
          <p:spPr>
            <a:xfrm>
              <a:off x="2917080" y="4833720"/>
              <a:ext cx="100800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2"/>
            <p:cNvSpPr/>
            <p:nvPr/>
          </p:nvSpPr>
          <p:spPr>
            <a:xfrm>
              <a:off x="1837080" y="4833720"/>
              <a:ext cx="10796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3"/>
            <p:cNvSpPr/>
            <p:nvPr/>
          </p:nvSpPr>
          <p:spPr>
            <a:xfrm>
              <a:off x="468360" y="4833720"/>
              <a:ext cx="136872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得分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4"/>
            <p:cNvSpPr/>
            <p:nvPr/>
          </p:nvSpPr>
          <p:spPr>
            <a:xfrm>
              <a:off x="3925080" y="4067280"/>
              <a:ext cx="13687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5"/>
            <p:cNvSpPr/>
            <p:nvPr/>
          </p:nvSpPr>
          <p:spPr>
            <a:xfrm>
              <a:off x="2917080" y="4067280"/>
              <a:ext cx="100800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6"/>
            <p:cNvSpPr/>
            <p:nvPr/>
          </p:nvSpPr>
          <p:spPr>
            <a:xfrm>
              <a:off x="1837080" y="4067280"/>
              <a:ext cx="1079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7"/>
            <p:cNvSpPr/>
            <p:nvPr/>
          </p:nvSpPr>
          <p:spPr>
            <a:xfrm>
              <a:off x="468360" y="4067280"/>
              <a:ext cx="13687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场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8"/>
            <p:cNvSpPr/>
            <p:nvPr/>
          </p:nvSpPr>
          <p:spPr>
            <a:xfrm>
              <a:off x="3925080" y="3251160"/>
              <a:ext cx="136872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合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19"/>
            <p:cNvSpPr/>
            <p:nvPr/>
          </p:nvSpPr>
          <p:spPr>
            <a:xfrm>
              <a:off x="2917080" y="3251160"/>
              <a:ext cx="100800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20"/>
            <p:cNvSpPr/>
            <p:nvPr/>
          </p:nvSpPr>
          <p:spPr>
            <a:xfrm>
              <a:off x="1837080" y="3251160"/>
              <a:ext cx="10796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胜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21"/>
            <p:cNvSpPr/>
            <p:nvPr/>
          </p:nvSpPr>
          <p:spPr>
            <a:xfrm>
              <a:off x="468360" y="3251160"/>
              <a:ext cx="136872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468360" y="4067280"/>
              <a:ext cx="4825440" cy="0"/>
            </a:xfrm>
            <a:prstGeom prst="line">
              <a:avLst/>
            </a:prstGeom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3"/>
            <p:cNvSpPr/>
            <p:nvPr/>
          </p:nvSpPr>
          <p:spPr>
            <a:xfrm>
              <a:off x="468360" y="4833720"/>
              <a:ext cx="4825440" cy="0"/>
            </a:xfrm>
            <a:prstGeom prst="line">
              <a:avLst/>
            </a:prstGeom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1837080" y="3251160"/>
              <a:ext cx="0" cy="2398680"/>
            </a:xfrm>
            <a:prstGeom prst="line">
              <a:avLst/>
            </a:prstGeom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5"/>
            <p:cNvSpPr/>
            <p:nvPr/>
          </p:nvSpPr>
          <p:spPr>
            <a:xfrm>
              <a:off x="2917080" y="3251160"/>
              <a:ext cx="0" cy="2398680"/>
            </a:xfrm>
            <a:prstGeom prst="line">
              <a:avLst/>
            </a:prstGeom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26"/>
            <p:cNvSpPr/>
            <p:nvPr/>
          </p:nvSpPr>
          <p:spPr>
            <a:xfrm>
              <a:off x="3925080" y="3251160"/>
              <a:ext cx="0" cy="2398680"/>
            </a:xfrm>
            <a:prstGeom prst="line">
              <a:avLst/>
            </a:prstGeom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7"/>
            <p:cNvSpPr/>
            <p:nvPr/>
          </p:nvSpPr>
          <p:spPr>
            <a:xfrm>
              <a:off x="468360" y="3251160"/>
              <a:ext cx="4825440" cy="0"/>
            </a:xfrm>
            <a:prstGeom prst="line">
              <a:avLst/>
            </a:prstGeom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8"/>
            <p:cNvSpPr/>
            <p:nvPr/>
          </p:nvSpPr>
          <p:spPr>
            <a:xfrm>
              <a:off x="468360" y="3251160"/>
              <a:ext cx="0" cy="2398680"/>
            </a:xfrm>
            <a:prstGeom prst="line">
              <a:avLst/>
            </a:prstGeom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9"/>
            <p:cNvSpPr/>
            <p:nvPr/>
          </p:nvSpPr>
          <p:spPr>
            <a:xfrm>
              <a:off x="5293800" y="3251160"/>
              <a:ext cx="0" cy="2398680"/>
            </a:xfrm>
            <a:prstGeom prst="line">
              <a:avLst/>
            </a:prstGeom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30"/>
            <p:cNvSpPr/>
            <p:nvPr/>
          </p:nvSpPr>
          <p:spPr>
            <a:xfrm>
              <a:off x="468360" y="5649840"/>
              <a:ext cx="4825440" cy="0"/>
            </a:xfrm>
            <a:prstGeom prst="line">
              <a:avLst/>
            </a:prstGeom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37"/>
          <p:cNvSpPr/>
          <p:nvPr/>
        </p:nvSpPr>
        <p:spPr>
          <a:xfrm>
            <a:off x="5621400" y="4221000"/>
            <a:ext cx="343368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x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y=1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 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5686560" y="3398760"/>
            <a:ext cx="33685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y=1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0  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1"/>
          <p:cNvSpPr/>
          <p:nvPr/>
        </p:nvSpPr>
        <p:spPr>
          <a:xfrm>
            <a:off x="2247840" y="4221000"/>
            <a:ext cx="5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3"/>
          <p:cNvSpPr/>
          <p:nvPr/>
        </p:nvSpPr>
        <p:spPr>
          <a:xfrm>
            <a:off x="2111400" y="5013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4"/>
          <p:cNvSpPr/>
          <p:nvPr/>
        </p:nvSpPr>
        <p:spPr>
          <a:xfrm>
            <a:off x="3421080" y="4870440"/>
            <a:ext cx="1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3276720" y="4149720"/>
            <a:ext cx="15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5"/>
          <p:cNvSpPr/>
          <p:nvPr/>
        </p:nvSpPr>
        <p:spPr>
          <a:xfrm>
            <a:off x="4286880" y="5013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图片 3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3343680" y="2925720"/>
            <a:ext cx="25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思考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它与你学过的一元一次方程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有什么区别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8"/>
          <p:cNvSpPr/>
          <p:nvPr/>
        </p:nvSpPr>
        <p:spPr>
          <a:xfrm>
            <a:off x="3414600" y="425520"/>
            <a:ext cx="336708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y=1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0  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1614600" y="3333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议一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395280" y="958680"/>
            <a:ext cx="2819520" cy="6098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未知"/>
          <p:cNvSpPr/>
          <p:nvPr/>
        </p:nvSpPr>
        <p:spPr>
          <a:xfrm>
            <a:off x="395280" y="425520"/>
            <a:ext cx="685800" cy="1143000"/>
          </a:xfrm>
          <a:custGeom>
            <a:avLst/>
            <a:gdLst/>
            <a:ahLst/>
            <a:rect l="l" t="t" r="r" b="b"/>
            <a:pathLst>
              <a:path w="528" h="1200">
                <a:moveTo>
                  <a:pt x="528" y="192"/>
                </a:moveTo>
                <a:lnTo>
                  <a:pt x="528" y="1200"/>
                </a:lnTo>
                <a:lnTo>
                  <a:pt x="240" y="1200"/>
                </a:lnTo>
                <a:lnTo>
                  <a:pt x="144" y="960"/>
                </a:lnTo>
                <a:lnTo>
                  <a:pt x="0" y="816"/>
                </a:lnTo>
                <a:lnTo>
                  <a:pt x="48" y="672"/>
                </a:lnTo>
                <a:lnTo>
                  <a:pt x="144" y="672"/>
                </a:lnTo>
                <a:lnTo>
                  <a:pt x="48" y="576"/>
                </a:lnTo>
                <a:lnTo>
                  <a:pt x="144" y="480"/>
                </a:lnTo>
                <a:lnTo>
                  <a:pt x="0" y="432"/>
                </a:lnTo>
                <a:lnTo>
                  <a:pt x="192" y="240"/>
                </a:lnTo>
                <a:lnTo>
                  <a:pt x="144" y="144"/>
                </a:lnTo>
                <a:lnTo>
                  <a:pt x="384" y="0"/>
                </a:lnTo>
                <a:lnTo>
                  <a:pt x="528" y="0"/>
                </a:lnTo>
                <a:lnTo>
                  <a:pt x="528" y="1200"/>
                </a:lnTo>
              </a:path>
            </a:pathLst>
          </a:custGeom>
          <a:gradFill rotWithShape="0">
            <a:gsLst>
              <a:gs pos="0">
                <a:srgbClr val="cfefd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2071800" y="1111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未知"/>
          <p:cNvSpPr/>
          <p:nvPr/>
        </p:nvSpPr>
        <p:spPr>
          <a:xfrm>
            <a:off x="1081080" y="425520"/>
            <a:ext cx="685800" cy="1143000"/>
          </a:xfrm>
          <a:custGeom>
            <a:avLst/>
            <a:gdLst/>
            <a:ahLst/>
            <a:rect l="l" t="t" r="r" b="b"/>
            <a:pathLst>
              <a:path w="816" h="1296">
                <a:moveTo>
                  <a:pt x="288" y="0"/>
                </a:moveTo>
                <a:lnTo>
                  <a:pt x="528" y="96"/>
                </a:lnTo>
                <a:lnTo>
                  <a:pt x="528" y="192"/>
                </a:lnTo>
                <a:lnTo>
                  <a:pt x="816" y="432"/>
                </a:lnTo>
                <a:lnTo>
                  <a:pt x="624" y="480"/>
                </a:lnTo>
                <a:lnTo>
                  <a:pt x="720" y="576"/>
                </a:lnTo>
                <a:lnTo>
                  <a:pt x="624" y="624"/>
                </a:lnTo>
                <a:lnTo>
                  <a:pt x="720" y="624"/>
                </a:lnTo>
                <a:lnTo>
                  <a:pt x="768" y="816"/>
                </a:lnTo>
                <a:lnTo>
                  <a:pt x="480" y="1056"/>
                </a:lnTo>
                <a:lnTo>
                  <a:pt x="384" y="1296"/>
                </a:lnTo>
                <a:lnTo>
                  <a:pt x="0" y="1296"/>
                </a:lnTo>
                <a:lnTo>
                  <a:pt x="0" y="0"/>
                </a:lnTo>
                <a:lnTo>
                  <a:pt x="288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ee4c9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15" descr="0"/>
          <p:cNvPicPr/>
          <p:nvPr/>
        </p:nvPicPr>
        <p:blipFill>
          <a:blip r:embed="rId1"/>
          <a:stretch/>
        </p:blipFill>
        <p:spPr>
          <a:xfrm>
            <a:off x="776160" y="425520"/>
            <a:ext cx="609840" cy="114300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3" descr="QQ截图20170412190909"/>
          <p:cNvPicPr/>
          <p:nvPr/>
        </p:nvPicPr>
        <p:blipFill>
          <a:blip r:embed="rId2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1" descr=""/>
          <p:cNvPicPr/>
          <p:nvPr/>
        </p:nvPicPr>
        <p:blipFill>
          <a:blip r:embed="rId3"/>
          <a:stretch/>
        </p:blipFill>
        <p:spPr>
          <a:xfrm>
            <a:off x="2752560" y="1111320"/>
            <a:ext cx="4029120" cy="857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文本框 16385"/>
          <p:cNvSpPr/>
          <p:nvPr/>
        </p:nvSpPr>
        <p:spPr>
          <a:xfrm>
            <a:off x="250920" y="1650960"/>
            <a:ext cx="8569080" cy="29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未知数（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含未知数的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数都是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样的方程叫做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元一次方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WordArt 4"/>
          <p:cNvSpPr txBox="1"/>
          <p:nvPr/>
        </p:nvSpPr>
        <p:spPr>
          <a:xfrm>
            <a:off x="250920" y="260280"/>
            <a:ext cx="36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学习新知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77" name="图片 3" descr="QQ截图20170412190909"/>
          <p:cNvPicPr/>
          <p:nvPr/>
        </p:nvPicPr>
        <p:blipFill>
          <a:blip r:embed="rId1"/>
          <a:stretch/>
        </p:blipFill>
        <p:spPr>
          <a:xfrm>
            <a:off x="7978680" y="-6480"/>
            <a:ext cx="1133640" cy="42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0:12:01Z</dcterms:created>
  <dc:creator/>
  <dc:description/>
  <dc:language>en-US</dc:language>
  <cp:lastModifiedBy>альпинизм</cp:lastModifiedBy>
  <dcterms:modified xsi:type="dcterms:W3CDTF">2018-04-25T14:52:07Z</dcterms:modified>
  <cp:revision>1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11</vt:lpwstr>
  </property>
</Properties>
</file>